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B103-1448-417F-A898-CC63C5111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DB39-1E83-4128-90E1-34194C436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7363-C13B-4DCC-B26B-7D5F6B89C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07D6-F887-4753-A7B3-DF8435F0F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C6F9-B9B0-4041-B1DB-C4D9D5419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C7E0-CFC5-4F69-A429-FE103B4F2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39C5-01E2-4817-82AF-9FCEF3044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2CF6-5487-4B1D-B6DE-11D4084AF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235C-EAA6-4B9F-9B2A-027D8C2DB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8861-1491-446B-B8F0-BD3A1FC4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F794-C9A7-4F31-9325-BBC29440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F1F1-5AF4-4BD3-8041-0D6B1293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9EEC1-1593-46A8-910A-3576AED201D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939;%B7%BB%B7%E7%F3%DD&amp;in=31380&amp;cl=2&amp;lm=-1&amp;pn=40&amp;rn=1&amp;di=8120240655&amp;ln=2000&amp;fr=&amp;fmq=&amp;ic=&amp;s=&amp;se=&amp;sme=0&amp;tab=&amp;width=&amp;height=&amp;face=&amp;is=&amp;istype=2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777240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Lesson 1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42560" y="2924280"/>
            <a:ext cx="672948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009999"/>
                </a:solidFill>
                <a:latin typeface="Arial"/>
              </a:rPr>
              <a:t>Toys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66960" y="274320"/>
            <a:ext cx="444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Arial"/>
              </a:rPr>
              <a:t>2.Let’s do it 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71640" y="3068640"/>
            <a:ext cx="7200720" cy="3456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1341360"/>
            <a:ext cx="291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do yo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 on Saturday, Jenn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16360" y="1413000"/>
            <a:ext cx="2879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I read a b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What do you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on Saturd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64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3.Letters and Sou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628640"/>
            <a:ext cx="1655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sh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i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sh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o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40000" y="1557360"/>
            <a:ext cx="2087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ick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lun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16360" y="1557360"/>
            <a:ext cx="165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th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tee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04000" y="1557360"/>
            <a:ext cx="172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th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e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th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8000" y="3645000"/>
            <a:ext cx="1434960" cy="1728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692360" y="3860640"/>
            <a:ext cx="1800000" cy="21718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3708360" y="3860640"/>
            <a:ext cx="1800360" cy="21607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5651640" y="3860640"/>
            <a:ext cx="1584360" cy="21607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7451640" y="3860640"/>
            <a:ext cx="15843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042920" y="1052640"/>
            <a:ext cx="7201080" cy="43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Good-bye!</a:t>
            </a:r>
            <a:endParaRPr b="0" lang="en-US" sz="9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10920" y="4508640"/>
            <a:ext cx="784836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9999"/>
                </a:solidFill>
                <a:latin typeface="Arial"/>
              </a:rPr>
              <a:t>play with toy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64000" y="333360"/>
            <a:ext cx="4968720" cy="3816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39640" y="1197000"/>
            <a:ext cx="2751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cc"/>
                </a:solidFill>
                <a:latin typeface="Arial"/>
              </a:rPr>
              <a:t>toy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24000" y="4076640"/>
            <a:ext cx="864072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cc33"/>
                </a:solidFill>
                <a:latin typeface="Arial"/>
              </a:rPr>
              <a:t>catch with a ball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435640" y="260280"/>
            <a:ext cx="3313080" cy="33130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167480" y="901800"/>
            <a:ext cx="2280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ball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185840" y="4525560"/>
            <a:ext cx="7122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ccff"/>
                </a:solidFill>
                <a:latin typeface="Arial"/>
              </a:rPr>
              <a:t>fly a kit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rId1"/>
          </p:cNvPr>
          <p:cNvPicPr/>
          <p:nvPr/>
        </p:nvPicPr>
        <p:blipFill>
          <a:blip r:embed="rId2"/>
          <a:srcRect l="0" t="0" r="0" b="10665"/>
          <a:stretch/>
        </p:blipFill>
        <p:spPr>
          <a:xfrm>
            <a:off x="4427640" y="189000"/>
            <a:ext cx="4465440" cy="3024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4360" y="1052640"/>
            <a:ext cx="251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ff"/>
                </a:solidFill>
                <a:latin typeface="Arial"/>
              </a:rPr>
              <a:t>kit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do you do on Saturda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7488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Arial"/>
              </a:rPr>
              <a:t>Answer my question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179280" y="3573360"/>
            <a:ext cx="849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2.What do Li Ming, Jenny and Danny do first?</a:t>
            </a: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494172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"/>
              </a:rPr>
              <a:t>3.What do Li Ming, Jenny and Danny do la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2708280"/>
            <a:ext cx="5688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What day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39640" y="4076280"/>
            <a:ext cx="815184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9999"/>
                </a:solidFill>
                <a:latin typeface="Arial"/>
              </a:rPr>
              <a:t>On Saturday, I play with my friends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16000" y="189000"/>
            <a:ext cx="64087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115640" y="4652640"/>
            <a:ext cx="69850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99"/>
                </a:solidFill>
                <a:latin typeface="Arial"/>
              </a:rPr>
              <a:t>We fly kit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116000" y="189000"/>
            <a:ext cx="6769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39640" y="4292280"/>
            <a:ext cx="756144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9900"/>
                </a:solidFill>
                <a:latin typeface="Arial"/>
              </a:rPr>
              <a:t>We play catch with a ball.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77752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68040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We read books.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9999"/>
                </a:solidFill>
                <a:latin typeface="Arial"/>
              </a:rPr>
              <a:t>Jenny plays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9999"/>
                </a:solidFill>
                <a:latin typeface="Arial"/>
              </a:rPr>
              <a:t>with her toys.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Saturday is fun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940360" y="1628640"/>
            <a:ext cx="320364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1T02:34:15Z</dcterms:created>
  <dc:creator/>
  <dc:description/>
  <dc:language>en-US</dc:language>
  <cp:lastModifiedBy/>
  <dcterms:modified xsi:type="dcterms:W3CDTF">2018-08-17T09:16:38Z</dcterms:modified>
  <cp:revision>16</cp:revision>
  <dc:subject/>
  <dc:title/>
</cp:coreProperties>
</file>